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60B-D434-482D-BA47-A9E732CC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B71-C031-46A0-B6C8-F5E7746C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A06-A522-4171-BAAE-9D1E2F12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905-2836-458F-A897-C5F3861E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134D-9846-4FFB-84A8-928E7377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0A1-0E4C-4AD4-B882-0967A93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241-085D-4BDB-994C-779F12ED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A153-A930-4851-8582-8B2CC53E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C048-AB90-4B65-8DB9-0604FA9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BDBB-AAEC-4D44-A373-7392EF4D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B8A-BE83-49E6-BA06-BF03F44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FEE-50D3-41BA-B5CD-C8ADDAB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7979-F437-4EC5-A084-57F12BD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4522-6CF6-490D-ABFB-F3BC9A42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E2E-69E1-41A5-B6B9-ECF05B6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5F41-91D6-412F-8AAD-A3695381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5F3B-613A-4C88-994F-3BA2A2C4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C89-59F7-42BA-8333-02A3EF0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FA7-8374-4A0D-9337-2F026D93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0CA-8EA8-472B-AC1C-98A055CA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AC4-6974-49A7-A404-270DC98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66C-CA8C-421B-96FE-F5D3AE7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2B2-E103-45AF-80F6-C303D9B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BD6-8AB5-4806-8ACA-081947F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B45-3E71-4EB4-A066-2EDF40597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120-778A-4C4E-B4C3-C9EA6DB862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tructuralism and Post Structuralis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Level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588000" y="429264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onstr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. A deconstruction of a magazine advertisement would include a discussion on the types of people who are missing from the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ences and gaps help reveal what the text is privileg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st over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 over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ience over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 structuralists argue tha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an audience, a text has no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uggest there is meaning in a text before it is seen by an audience is ridicul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ext has the meaning that the audience chooses to giv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places the audience in a very powerful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no longer passive receivers of meaning that has been determined by a produ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cap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truct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arch for deep structures that are universal to all cul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ce we have discovered the underlying characteristics of a text, we can open it up to discover its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rmines HOW texts produce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Post struct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ning in a text is uncertain and unre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s should be analysed through deconstruction – look at what is missing/been omit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an audience a text has no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episode from Sex and the City entitled ‘Where There’s Smok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text from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, answer the questions on your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miotic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ussure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ifference between the signifier and signifie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804000" y="1197000"/>
            <a:ext cx="1693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ructu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relies on a shared understanding of ‘rule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guists study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ructur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edia texts, structuralists would claim to work out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ep structur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being emplo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g. In a film genre structuralists would work out deep structures that give meaning to th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ither the film maker or audience would necessarily be aware of these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arr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ucturalists have investigated narrative using versions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binary opposi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oposed by Straus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suggest all story telling has deep stru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/Evil  Culture/Nature  Man/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structuralist analysis of a media text will look at how tensions between these oppositions are introduced and re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ructuralist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tanic (1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arrative of Titanic works partly by differences such as upper deck/lower deck, upper class/lower class, American/Europ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understand these oppositions through signifiers of music, dress, colour, type of character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arrative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ladimir Pro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zvetan Todor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is that the surface structure of drama has a deeper underlying resonance which helps give the audience reinforcement of our culture’s rules and expec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957240" cy="136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960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dia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alism has informed the approach to media analysis throug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 have stock characters in soap operas (the gossip, the ‘bad’ boy, the loveable rogue etc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s can be categorised according to characteristics they have in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596360" y="4365720"/>
            <a:ext cx="1366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ost Structu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 Structuralis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NOT accept the basic idea of deep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nder what the point is in searching for mea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int out we cannot be sure meaning exists in the first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t emphasis on the interpretation of texts rather than the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onstruc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alytical technique used by post structuralists is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deconstr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ntention is NOT to discover what the real meaning of a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onstruction involve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onsideration of what’s mi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e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7:49:59Z</dcterms:created>
  <dc:creator>niall</dc:creator>
  <dc:description/>
  <dc:language>en-US</dc:language>
  <cp:lastModifiedBy>Grainne</cp:lastModifiedBy>
  <dcterms:modified xsi:type="dcterms:W3CDTF">2010-09-16T11:10:18Z</dcterms:modified>
  <cp:revision>7</cp:revision>
  <dc:subject/>
  <dc:title>Structuralism and Post Structuralism</dc:title>
</cp:coreProperties>
</file>